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BDA-61FF-4875-A1AF-9ABABDC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354-63BA-4F8C-9ACB-60D303D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1DA-1D56-41C6-BE20-460C64A9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52E-F902-4107-8901-039D1294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B28C-5D4F-4855-B1EA-B83A7F78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83AD-49D0-4400-A13A-F0DB9A9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88A-99C4-4D9D-ADCF-E65E880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EBAE-A879-4ED5-A4B6-7D5EE2B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9F7-AE82-42C0-9CCA-42E7BF6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761D-01B2-4398-8B92-3C90640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E6EF-784E-47F6-9CAE-8AF40F1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393-9829-4AAC-96EF-4F62FD5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A8D-225C-48FC-B147-C94CC94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03D-1723-4166-AF49-B4874E9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0347-47B3-46BA-A74A-C4433BA5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D5E-7D97-451D-85A3-F26D7FB2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1CA4-DF4C-4D5A-BA2F-EE19DBF4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927-68E7-4023-A8C5-D7C1EA29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71F-031C-4E5A-92AD-4CA4F1F7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981-F956-4B5F-913F-3149A682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7F0-DB90-456C-A5F1-DF3BE77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59B-DD0F-4094-820C-1F9046A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893-B69D-496E-9F47-2DA8E69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F42-ED68-4E24-97CC-36C49D0D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02C-A54C-4358-BB62-6715473A6A46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486-2E4F-47BE-ACA2-B83E36CE3C4C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legraph.co.uk/science/picture-galleries/7924099/Creepy-crawlies-Amazing-Scanning-Electron-Microscope-pictures-of-insects-and-spiders.html?image=2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671480" y="404640"/>
            <a:ext cx="58010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a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81240" y="1697040"/>
            <a:ext cx="50547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a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Always carry a microscope with 2 hand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Only use lens cleaning tissue – not paper tow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Look at the microscope side on, wind to the lowest point and then focus by winding upward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Using The Microscope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Each lens has a magnification on it (the x number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The total magnification is the eye piece x objectiv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Place a small piece of newsprint with the letter ‘e’ on a glass slide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Use a pipette to place a drop of water on the newspri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Slowly lower a coverslip onto the print – try to avoid bubbl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Place the slide onto the stag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Lower the bodytube to the lowest poi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Look through the eyepiece and  focus first using the coarse then fine adjustme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the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you notice about the letter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Using low magnification draw what you see.  Try to draw to scal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Increase the magnification, don’t change the field of view and draw what you se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Increase to the final magnification and draw what you se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981000"/>
            <a:ext cx="83059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Scope of Unit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history of cell discover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microscop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cell makeup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Plant Cells vs Animal Cell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ells, tissues and organ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Melanoma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Bacteria, Fungi and Virus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81000"/>
            <a:ext cx="83059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What you will produc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Workbook not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Prac. Notes/report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ell drawing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Various Question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AI – microscope prac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re may be a final tes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8000" y="1557000"/>
            <a:ext cx="36100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Eukaryot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ytoso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68360" y="907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651b"/>
                </a:solidFill>
                <a:latin typeface="Arial"/>
              </a:rPr>
              <a:t>KEY TERMS</a:t>
            </a:r>
            <a:r>
              <a:rPr b="0" lang="en-AU" sz="1800" spc="-1" strike="noStrike">
                <a:solidFill>
                  <a:srgbClr val="ff651b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203640" y="1549440"/>
            <a:ext cx="36115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Mitochondr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hloropla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Vacuol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Nucleu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Organell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Orga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ell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Tissu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5940360" y="1477800"/>
            <a:ext cx="361008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Stem Cell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Epidermi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anc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Melanom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Bacter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Algae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Fungi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Viru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Seeing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05"/>
                </a:solidFill>
                <a:latin typeface="Arial"/>
              </a:rPr>
              <a:t>Microscopes enable us to see very small objects. </a:t>
            </a: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There are many different types of microscopes. Light microscopes use a series of glass lenses to bend light to create a magnified image.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Electron Microscopes use electrons to so display a magnified image on a scree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telegraph.co.uk/science/picture-galleries/7924099/Creepy-crawlies-Amazing-Scanning-Electron-Microscope-pictures-of-insects-and-spiders.html?image=2</a:t>
            </a: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648240" cy="2736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>
            <a:off x="176040" y="-219384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6040" y="3475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993300"/>
                </a:solidFill>
                <a:latin typeface="Arial"/>
              </a:rPr>
              <a:t>http://commtechlab.msu.edu/sites/dlc-me/zoo/zah0700.htm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4008600" y="188424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99880" y="549360"/>
            <a:ext cx="31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scherichia coli</a:t>
            </a:r>
            <a:br>
              <a:rPr sz="18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Image Width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9.5 micron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4356000" y="2570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413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993300"/>
                </a:solidFill>
                <a:latin typeface="Arial"/>
              </a:rPr>
              <a:t>http://www.art.com/products/p360992961-sa-i4012396/michael-gabridge-escherichia-coli-bacteria-colonies-on-macconkey-agar-culture-dish-lactose-fermenters-are-red.htm</a:t>
            </a:r>
            <a:endParaRPr b="0" lang="en-US" sz="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356000" y="61912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993300"/>
                </a:solidFill>
                <a:latin typeface="Arial"/>
              </a:rPr>
              <a:t>http://janiceatmeredith.wordpress.com/2012/01/24/how-to-gram-stain/</a:t>
            </a:r>
            <a:endParaRPr b="0" lang="en-US" sz="11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530280" y="4016520"/>
            <a:ext cx="3249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istory of the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665 Robert Hooke named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675 Leeuwenhoek discovered bacteri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824 Dutrochet planets and animals are made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831 Brown observes the nucleu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933 Ruska builds first electron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14T02:21:48Z</dcterms:modified>
  <cp:revision>41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